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E632-B7FE-4614-971A-DAB722B5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4F6-F27C-4B5D-909D-47DF4D86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F192-2469-4BE8-9F6B-E80C426F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2FE-71AF-46C9-9FEC-CD2879D5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2B2C-5CB5-47F6-AB96-545A03BE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7A27-41DD-4653-BC5D-04AFE031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D894-E153-4571-A19C-CFC575E8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084E-45BC-4363-9444-0878BFE3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E41F-3430-4579-B18A-99E40FA0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3A3A-DF88-4CD6-9179-78643858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A33F-8840-45F7-8FE6-61349896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892-893E-4D5E-9026-89CF2CEB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9EF6-6593-443B-8832-B57ED255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A9AC-E674-438A-AC7B-606FF961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88AD-3DFC-4AA6-A122-1C65179F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ED91-E7D8-4A47-8F65-7BB64E52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6824-AF73-4AF1-BCD0-A6FA72DF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CAA6-183E-4501-AE9E-9C2ACD4B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5A47-6CEB-48F7-8765-55202CDF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F70C-0D59-40A9-8C18-CCF3AC10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4D2-6CD6-4EC5-81D7-F3F5F65C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285-C90C-4A55-9088-42C1AA6E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612C-9F61-4AA1-9AAE-6E0A59E3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078-0046-4B5D-9837-CCF13DE7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3AEB-67FC-4889-A29B-5A9997F618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1C86-4AD2-4EEC-BBE6-F3401741B4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невник проектной деятельност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8 клас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 оценки продук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11280" y="1752480"/>
          <a:ext cx="7956360" cy="4267440"/>
        </p:xfrm>
        <a:graphic>
          <a:graphicData uri="http://schemas.openxmlformats.org/drawingml/2006/table">
            <a:tbl>
              <a:tblPr/>
              <a:tblGrid>
                <a:gridCol w="1584360"/>
                <a:gridCol w="637200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ланируемые характеристики продук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бы решить задачу № _, мне надо выполнить следующие действия ____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_______________________________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_______________________________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четы по ресурса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олагать следующими ресурс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66640" y="1752480"/>
          <a:ext cx="8001000" cy="426744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14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сурс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особ получ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кую задачу позволяет решить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рафик выполнения проек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8360" y="1768320"/>
          <a:ext cx="8001000" cy="4329360"/>
        </p:xfrm>
        <a:graphic>
          <a:graphicData uri="http://schemas.openxmlformats.org/drawingml/2006/table">
            <a:tbl>
              <a:tblPr/>
              <a:tblGrid>
                <a:gridCol w="2060640"/>
                <a:gridCol w="1538280"/>
                <a:gridCol w="1800000"/>
                <a:gridCol w="2602080"/>
              </a:tblGrid>
              <a:tr h="885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йствия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о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блюдение графика выполнения проек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метка лицеис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метка руководител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о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66640" y="1752480"/>
          <a:ext cx="8001000" cy="426744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делать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умать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читать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судить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ный продукт ___________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и выводы по оценке продукта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4360" y="2349360"/>
          <a:ext cx="7991280" cy="2025720"/>
        </p:xfrm>
        <a:graphic>
          <a:graphicData uri="http://schemas.openxmlformats.org/drawingml/2006/table">
            <a:tbl>
              <a:tblPr/>
              <a:tblGrid>
                <a:gridCol w="647640"/>
                <a:gridCol w="4583160"/>
                <a:gridCol w="2760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ланируемые характеристики продук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лученные характеристики продук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ный мною продукт предназначен для _____________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лученный мною продукт также может быть полезен…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Я в этом уверен, потому что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лученный мною продук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не может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ыть использован кем-либо еще, потому что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и достижения ___________________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_____________________________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__________________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66640" y="1752480"/>
          <a:ext cx="8001000" cy="426744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удности в выполнении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особы их преодоления в будуще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льные стороны моей работы над проектом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66640" y="1752480"/>
          <a:ext cx="8001000" cy="426744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чин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чин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абые стороны моей работы над проектом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9640" y="1773360"/>
          <a:ext cx="8001000" cy="42670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чин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чин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держани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Контакт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Проектный замысе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. Проектирование (анализ проблемы, постановка цели, планирование, текущий контроль, продукт планирование и его оценка, мое продвижени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. Коммуникация (консультация, обсуждение в группе, мои предложения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. Работа с информацие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сульт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и заметки      (Важно!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11280" y="2060640"/>
          <a:ext cx="8137440" cy="2027160"/>
        </p:xfrm>
        <a:graphic>
          <a:graphicData uri="http://schemas.openxmlformats.org/drawingml/2006/table">
            <a:tbl>
              <a:tblPr/>
              <a:tblGrid>
                <a:gridCol w="769680"/>
                <a:gridCol w="2484720"/>
                <a:gridCol w="850680"/>
                <a:gridCol w="2087640"/>
                <a:gridCol w="1944720"/>
              </a:tblGrid>
              <a:tr h="370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и вопрос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сультация оказ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ител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ругим специалистом (указа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о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66640" y="1752480"/>
          <a:ext cx="8001000" cy="426744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делать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умать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читать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судить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ммуникация (обсуждение в групп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опросы для общего обсуждения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я информация для группы / мои идеи и предложения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шения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ои обязатель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делать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знать / обсудить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-243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готовка к презентации проек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я аудитория ____________________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я цель во время презентации ______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лючевая идея, которую я хочу донести до слушателей _______________________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не  понадобится ______________________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глядные материалы (содержание, эскиз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ект (названи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ь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ало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вершение работ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Проектный замысел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лема, в решении которой я заинтересован____________________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 заинтересована в разработке такого проекта, потому что: _______________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й проект будет посвящен: _________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елаемая ситуация (ситуация должног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интересованные стороны_________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и ценности: ___________________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________________________________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66640" y="1752480"/>
          <a:ext cx="8001000" cy="42973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ные признаки желаемой ситу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чему эти признаки важны для меня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ьная ситуация ______________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______________________________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лияют на ситуацию (+ и -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й прогноз _____________________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________________________________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________________________________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тивореч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66640" y="1752480"/>
          <a:ext cx="8001000" cy="460224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уществующая ситуация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е представление о желаемой (идеальной) ситу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Line 31"/>
          <p:cNvSpPr/>
          <p:nvPr/>
        </p:nvSpPr>
        <p:spPr>
          <a:xfrm>
            <a:off x="6156360" y="623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блема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чины существования проблем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3.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а проекта:______________________ Цель проекта:______________________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чи проекта:____________________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уемый продукт:___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8360" y="2133720"/>
          <a:ext cx="8001000" cy="3952800"/>
        </p:xfrm>
        <a:graphic>
          <a:graphicData uri="http://schemas.openxmlformats.org/drawingml/2006/table">
            <a:tbl>
              <a:tblPr/>
              <a:tblGrid>
                <a:gridCol w="547560"/>
                <a:gridCol w="3240000"/>
                <a:gridCol w="4213440"/>
              </a:tblGrid>
              <a:tr h="18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учение литературы по избранной тем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к решалась проблема различными авторами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0T12:08:18Z</dcterms:created>
  <dc:creator>Танюсик</dc:creator>
  <dc:description/>
  <dc:language>en-US</dc:language>
  <cp:lastModifiedBy>Учительская1</cp:lastModifiedBy>
  <dcterms:modified xsi:type="dcterms:W3CDTF">2015-09-19T05:04:46Z</dcterms:modified>
  <cp:revision>22</cp:revision>
  <dc:subject/>
  <dc:title>Новый дневник проектной деятельности  8 -9 классы</dc:title>
</cp:coreProperties>
</file>